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47E-A545-4299-8CDF-D8CEA389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531B-3CA0-404F-A6A6-39897F71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DCA-26FE-42D5-81F9-F5BD6851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4B18-24B4-415E-9EA8-3A5FCBF5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220C-89DA-46F8-8FD1-445452F6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8EB2-2DEE-47EA-9B84-B221A387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D7C-72F2-44B1-9723-D1C4DFF0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F61-F076-4A72-97D6-3BD7991B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882D-2C31-4B98-9E4B-41563D7B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E2E6-8BC6-4E76-83D7-D3CE3B33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2FA-5050-4B94-AA24-2B46AE02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D88-2DA3-46DF-9C83-B112CB3B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13200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4308-A2C0-4363-9CA3-AF43B604F420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HE_RD_skill_strategy_jan06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Minion"/>
              </a:rPr>
              <a:t>PHE RD Skill Strateg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. Bocio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PHE 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v1, 22.1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1D5-6E3A-4FF9-861D-B10477F5D3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43280" y="2349360"/>
            <a:ext cx="5905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sign &amp;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e &amp; custom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ptimize &amp; maint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3214800"/>
            <a:ext cx="59054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fine integration strategy, derive coniguration set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nable daily bui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toamate config &amp; bui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4079880"/>
            <a:ext cx="59054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ptimize test case definition and collaboration with CPM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tomate testing, optimize/maximize 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crease defect resolution cycle ti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43280" y="4944960"/>
            <a:ext cx="5905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management (with TPM‘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act management &amp; supplier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risk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43280" y="5810400"/>
            <a:ext cx="59054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support and toolk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ools introduction, methodology and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inuous educ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1484280"/>
            <a:ext cx="5905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fine, evaluate, prototype, re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reeze, train &amp; roll-out (methodology, API‘s, toolkits, wizard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22440"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ntor, support, control standard u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93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a0e66"/>
                </a:solidFill>
                <a:latin typeface="Minion"/>
              </a:rPr>
              <a:t>PHE RD Skillset Decomposition: Think BiC* !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539640" y="1125360"/>
            <a:ext cx="20163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est-in-Class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1700280"/>
            <a:ext cx="20178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2590920"/>
            <a:ext cx="2016000" cy="52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Software (HW, M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3481560"/>
            <a:ext cx="20160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4371840"/>
            <a:ext cx="20160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System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8920" y="5262480"/>
            <a:ext cx="20160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6153120"/>
            <a:ext cx="20160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iC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41240" y="105264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*BiC = Best-in-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145908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62881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5445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50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3645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2781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1844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EB29-68CD-4FCB-86AC-87A4A89509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907920"/>
            <a:ext cx="4176720" cy="5172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, Contract, Partner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720" y="1052640"/>
            <a:ext cx="4032360" cy="46346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7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HE RD Software Skill Needs Aligned to Product Layers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900000" y="1125360"/>
            <a:ext cx="3384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Definition &amp; Us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1655640"/>
            <a:ext cx="338472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Customization &amp; Wiz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2060640"/>
            <a:ext cx="338472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Programming &amp;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3789360"/>
            <a:ext cx="338472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graming Support, Wizards,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4175280"/>
            <a:ext cx="338472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ograming API‘s, middleware, 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4562640"/>
            <a:ext cx="3384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level, stacks &amp; protoc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4967280"/>
            <a:ext cx="3384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&amp; device layer, firm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675360" y="3636000"/>
            <a:ext cx="280836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,Frameworks,Comp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2492280"/>
            <a:ext cx="1081080" cy="15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alue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avi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2720" y="2492280"/>
            <a:ext cx="108108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M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dio,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ideo,DV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2492280"/>
            <a:ext cx="107964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ic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ffice 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-6480" y="1600200"/>
            <a:ext cx="125748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981000"/>
            <a:ext cx="3960720" cy="1535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Core</a:t>
            </a: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cannot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be outsourced or off-sho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lustered in very few locations (MUC, KLF: platform rela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ust be brilliant people; can be expens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2473200"/>
            <a:ext cx="3960720" cy="247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Basic</a:t>
            </a: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 solid 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ix of experienced staff and new university h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an be balanced between hi-lo cost cou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hould be organized in clusters of compet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xternal support staff for special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4292640"/>
            <a:ext cx="3960720" cy="179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Support</a:t>
            </a: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 solid own basis on each CoC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70% for software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0% staff can be lo-cost, lo(wer) sk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0% - 30% external resources for peak sit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3357720"/>
            <a:ext cx="223200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elephony, audio 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0A01-E6D3-44EC-98CF-D28D07CA93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6227640" y="1125360"/>
            <a:ext cx="2160720" cy="187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298920" y="1125360"/>
            <a:ext cx="2160360" cy="187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93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HE RD Offshore Possibiliti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 flipV="1">
            <a:off x="1403280" y="979560"/>
            <a:ext cx="0" cy="496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5948280"/>
            <a:ext cx="7201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1268280"/>
            <a:ext cx="2376360" cy="4199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708360" y="980640"/>
            <a:ext cx="0" cy="496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838680" y="1197000"/>
            <a:ext cx="3830400" cy="4248000"/>
            <a:chOff x="3838680" y="1197000"/>
            <a:chExt cx="3830400" cy="4248000"/>
          </a:xfrm>
        </p:grpSpPr>
        <p:sp>
          <p:nvSpPr>
            <p:cNvPr id="97" name=""/>
            <p:cNvSpPr/>
            <p:nvPr/>
          </p:nvSpPr>
          <p:spPr>
            <a:xfrm>
              <a:off x="3924360" y="1197000"/>
              <a:ext cx="3744720" cy="4248000"/>
            </a:xfrm>
            <a:prstGeom prst="rtTriangl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38680" y="5432400"/>
              <a:ext cx="38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3995640" y="1268280"/>
              <a:ext cx="3672000" cy="41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403280" y="3139920"/>
            <a:ext cx="720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32640" y="597204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084720" y="980640"/>
            <a:ext cx="0" cy="496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64440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los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7320" y="20131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800" y="41590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31760" y="59421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36640" y="5942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11480" y="594216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5111640"/>
            <a:ext cx="237672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Definition &amp; Us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4076640"/>
            <a:ext cx="338436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graming Support, Wizards,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4360" y="3213000"/>
            <a:ext cx="1511280" cy="9464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ograming API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iddle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3498840"/>
            <a:ext cx="144000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level, 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&amp; protoc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80000" y="2924280"/>
            <a:ext cx="151128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S &amp; 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irm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27640" y="4467240"/>
            <a:ext cx="223200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rameworks, Compon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0360" y="5516640"/>
            <a:ext cx="295272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&amp; Contract &amp; Partner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68360" y="981000"/>
            <a:ext cx="2160720" cy="52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Customization &amp; Wiz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48000" y="1773360"/>
            <a:ext cx="1584360" cy="73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Programming &amp;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5280" y="1773360"/>
            <a:ext cx="1081080" cy="137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alue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avi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2565360"/>
            <a:ext cx="108108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M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dio,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VB-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11640" y="3716280"/>
            <a:ext cx="1079640" cy="115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ic App‘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ffice 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els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16360" y="1197000"/>
            <a:ext cx="125748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76D-C00C-4DEC-933A-BE624CC164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93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HE RD Offshore Strategy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9680" y="-3298680"/>
          <a:ext cx="879480" cy="517680"/>
        </p:xfrm>
        <a:graphic>
          <a:graphicData uri="http://schemas.openxmlformats.org/drawingml/2006/table">
            <a:tbl>
              <a:tblPr/>
              <a:tblGrid>
                <a:gridCol w="87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522360" y="660600"/>
            <a:ext cx="2178000" cy="2912400"/>
            <a:chOff x="522360" y="660600"/>
            <a:chExt cx="2178000" cy="2912400"/>
          </a:xfrm>
        </p:grpSpPr>
        <p:sp>
          <p:nvSpPr>
            <p:cNvPr id="125" name=""/>
            <p:cNvSpPr/>
            <p:nvPr/>
          </p:nvSpPr>
          <p:spPr>
            <a:xfrm>
              <a:off x="539640" y="769680"/>
              <a:ext cx="2160720" cy="28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9640" y="13064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2692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1600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98240" y="81900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A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307440" y="87552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Jan. 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641160" y="96984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9640" y="15573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9640" y="18446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9640" y="21319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9640" y="24192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9640" y="27064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9640" y="29970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9640" y="32875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44000" y="1268280"/>
            <a:ext cx="9853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va Ap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C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114720" y="660600"/>
            <a:ext cx="2178000" cy="2912400"/>
            <a:chOff x="3114720" y="660600"/>
            <a:chExt cx="2178000" cy="2912400"/>
          </a:xfrm>
        </p:grpSpPr>
        <p:sp>
          <p:nvSpPr>
            <p:cNvPr id="141" name=""/>
            <p:cNvSpPr/>
            <p:nvPr/>
          </p:nvSpPr>
          <p:spPr>
            <a:xfrm>
              <a:off x="3132000" y="769680"/>
              <a:ext cx="2160720" cy="28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32000" y="13064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1964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0836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38680" y="88884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WRO f. KL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2899800" y="87552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Jan. 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3233520" y="96984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32000" y="15573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32000" y="18446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32000" y="21319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32000" y="24192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32000" y="27064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2000" y="29970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2000" y="32875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606120" y="1268280"/>
            <a:ext cx="173520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integration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5520" y="1268280"/>
            <a:ext cx="28296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81120" y="1268280"/>
            <a:ext cx="38484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707080" y="660600"/>
            <a:ext cx="2214000" cy="2912400"/>
            <a:chOff x="5707080" y="660600"/>
            <a:chExt cx="2214000" cy="2912400"/>
          </a:xfrm>
        </p:grpSpPr>
        <p:sp>
          <p:nvSpPr>
            <p:cNvPr id="159" name=""/>
            <p:cNvSpPr/>
            <p:nvPr/>
          </p:nvSpPr>
          <p:spPr>
            <a:xfrm>
              <a:off x="5724360" y="769680"/>
              <a:ext cx="2160720" cy="28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24360" y="13064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1200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00720" y="76968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28160" y="888840"/>
              <a:ext cx="149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WRO f. MU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5492160" y="87552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Jan. 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5825880" y="96984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15573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18446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24360" y="21319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24360" y="24192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24360" y="27064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24360" y="29970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24360" y="32875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198480" y="1268280"/>
            <a:ext cx="173520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integration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+ 65 extern (ne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09960" y="1268280"/>
            <a:ext cx="38484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22360" y="1268280"/>
            <a:ext cx="48708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3722760"/>
            <a:ext cx="2160720" cy="30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42591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408480" y="3722760"/>
            <a:ext cx="2880" cy="30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0440" y="3722760"/>
            <a:ext cx="0" cy="30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9200" y="3772080"/>
            <a:ext cx="10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    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2891880" y="382860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n. 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3225600" y="392292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45100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479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508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5372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56595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59500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06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6440" y="3722760"/>
            <a:ext cx="2160720" cy="30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6440" y="42591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04080" y="3722760"/>
            <a:ext cx="0" cy="30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279840" y="3722760"/>
            <a:ext cx="12600" cy="30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29600" y="37720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5484240" y="382860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an. 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5817960" y="392292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6440" y="45100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6440" y="4797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16440" y="508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6440" y="5372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6440" y="56595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16440" y="59500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16440" y="62406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22360" y="3613320"/>
            <a:ext cx="2178000" cy="2912400"/>
            <a:chOff x="522360" y="3613320"/>
            <a:chExt cx="2178000" cy="2912400"/>
          </a:xfrm>
        </p:grpSpPr>
        <p:sp>
          <p:nvSpPr>
            <p:cNvPr id="205" name=""/>
            <p:cNvSpPr/>
            <p:nvPr/>
          </p:nvSpPr>
          <p:spPr>
            <a:xfrm>
              <a:off x="539640" y="3722400"/>
              <a:ext cx="2160720" cy="28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9640" y="42591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7280" y="372240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16000" y="3722400"/>
              <a:ext cx="0" cy="28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0520" y="377172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    </a:t>
              </a:r>
              <a:r>
                <a:rPr b="0" lang="de-DE" sz="2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YS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307440" y="382824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Jan. 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641160" y="392256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9640" y="451008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9640" y="47973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9640" y="50846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9640" y="53719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9640" y="565920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9640" y="59497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9640" y="62402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982080" y="4221000"/>
            <a:ext cx="133128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LF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LF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UC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UC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WRO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WRO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O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97120" y="4251240"/>
            <a:ext cx="187524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b proj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act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integration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s. Spec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2520" y="1268280"/>
            <a:ext cx="384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03200" y="4292640"/>
            <a:ext cx="38484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66720" y="4286160"/>
            <a:ext cx="38484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cc33"/>
                </a:solidFill>
                <a:latin typeface="Minion"/>
                <a:ea typeface="文鼎中黑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cc33"/>
                </a:solidFill>
                <a:latin typeface="Minion"/>
                <a:ea typeface="文鼎中黑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cc33"/>
                </a:solidFill>
                <a:latin typeface="Minion"/>
                <a:ea typeface="文鼎中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Minion"/>
                <a:ea typeface="文鼎中黑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32000" y="652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652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0560" y="4221000"/>
            <a:ext cx="38484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5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84080" y="4221000"/>
            <a:ext cx="38484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16400" y="4254480"/>
            <a:ext cx="187524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ub proj l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ntract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evice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gration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UI integration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ore eng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s. Spec M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F12-C078-4877-8384-89A74B9D3D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PHE RD: Hiring Tactic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In MUC, KLF, WRO, MAO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Internal bonus for everyone bringing a good hire (1/2 monthly pay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Condition: new hire must still be employed 7 months after hiring da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General skill transition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Increase number of staff with informatics degrees (vs. Engineering degrees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Besides online advertising (e.g. Monster), utilize classic media like VDI Nachrichten, ct, other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</a:rPr>
              <a:t>Immediate Focu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Hire </a:t>
            </a:r>
            <a:r>
              <a:rPr b="0" lang="de-DE" sz="2000" spc="-1" strike="noStrike" u="sng">
                <a:solidFill>
                  <a:srgbClr val="3a0e66"/>
                </a:solidFill>
                <a:uFillTx/>
                <a:latin typeface="Minion"/>
              </a:rPr>
              <a:t>xxx</a:t>
            </a: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 architects, </a:t>
            </a:r>
            <a:r>
              <a:rPr b="0" lang="de-DE" sz="2000" spc="-1" strike="noStrike" u="sng">
                <a:solidFill>
                  <a:srgbClr val="3a0e66"/>
                </a:solidFill>
                <a:uFillTx/>
                <a:latin typeface="Minion"/>
              </a:rPr>
              <a:t>yyy</a:t>
            </a: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 project mgrs,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Win back into RD key people from CM organization and other places that aren‘t directly contributing to the produ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91AF-214A-4718-804B-29D1A494DA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iegfried Bocionek</cp:lastModifiedBy>
  <dcterms:modified xsi:type="dcterms:W3CDTF">2006-01-24T11:17:51Z</dcterms:modified>
  <cp:revision>92</cp:revision>
  <dc:subject/>
  <dc:title>PowerPoint 簡報</dc:title>
</cp:coreProperties>
</file>